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39D-BF59-4857-9B2F-CDB6A0D3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03B-091B-4900-8E67-97349278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800-0772-41A5-82D5-D136CFB0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68D-0416-436E-BB4D-14A2DD85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60F-4027-4148-B75F-E7CE7421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028-BE21-4124-9F36-9E2A41EB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986-01B3-4A90-B338-0B46471A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AFC-D5AE-4C34-93C6-AF61E352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852-8F1C-4473-BB10-E374D7A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267-35F5-4B38-99DF-57E503E4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017-3F24-40C0-9D5E-4299F569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834-91DB-400E-94A8-5CC2A37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E72-F465-44D3-93FC-E10B9A7B91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5000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0" y="6500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0" descr="Perth &amp; District Tourists.JPG"/>
          <p:cNvPicPr/>
          <p:nvPr/>
        </p:nvPicPr>
        <p:blipFill>
          <a:blip r:embed="rId1"/>
          <a:stretch/>
        </p:blipFill>
        <p:spPr>
          <a:xfrm>
            <a:off x="237960" y="28584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Perth Bowlers.JPG"/>
          <p:cNvPicPr/>
          <p:nvPr/>
        </p:nvPicPr>
        <p:blipFill>
          <a:blip r:embed="rId2"/>
          <a:stretch/>
        </p:blipFill>
        <p:spPr>
          <a:xfrm>
            <a:off x="1738440" y="21420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2" descr="Perth Tartan Tour.JPG"/>
          <p:cNvPicPr/>
          <p:nvPr/>
        </p:nvPicPr>
        <p:blipFill>
          <a:blip r:embed="rId3"/>
          <a:stretch/>
        </p:blipFill>
        <p:spPr>
          <a:xfrm>
            <a:off x="3452760" y="357120"/>
            <a:ext cx="106056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Perth Ex Presidents.JPG"/>
          <p:cNvPicPr/>
          <p:nvPr/>
        </p:nvPicPr>
        <p:blipFill>
          <a:blip r:embed="rId4"/>
          <a:stretch/>
        </p:blipFill>
        <p:spPr>
          <a:xfrm>
            <a:off x="4952880" y="71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Perth League.JPG"/>
          <p:cNvPicPr/>
          <p:nvPr/>
        </p:nvPicPr>
        <p:blipFill>
          <a:blip r:embed="rId5"/>
          <a:stretch/>
        </p:blipFill>
        <p:spPr>
          <a:xfrm>
            <a:off x="6738840" y="428760"/>
            <a:ext cx="1006560" cy="973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35"/>
          <p:cNvSpPr/>
          <p:nvPr/>
        </p:nvSpPr>
        <p:spPr>
          <a:xfrm>
            <a:off x="0" y="1357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&amp;  DISTRICT TOURISTS  PERTH &amp;  DISTRICT  BOWLERS        PERTH  TARTAN  TOUR                 PERTH  EX  PRESIDENTS          PERTH  &amp;  DISTRICT  LEA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0-02-02T17:08:45Z</dcterms:modified>
  <cp:revision>35</cp:revision>
  <dc:subject/>
  <dc:title>Slide 1</dc:title>
</cp:coreProperties>
</file>